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explode.wav" ContentType="audio/x-wav"/>
  <Override PartName="/ppt/media/image21.jpeg" ContentType="image/jpeg"/>
  <Override PartName="/ppt/media/image20.png" ContentType="image/png"/>
  <Override PartName="/ppt/media/image3.png" ContentType="image/png"/>
  <Override PartName="/ppt/media/image19.wmf" ContentType="image/x-wmf"/>
  <Override PartName="/ppt/media/image18.wmf" ContentType="image/x-wmf"/>
  <Override PartName="/ppt/media/push.wav" ContentType="audio/x-wav"/>
  <Override PartName="/ppt/media/image14.gif" ContentType="image/gif"/>
  <Override PartName="/ppt/media/image16.jpeg" ContentType="image/jpeg"/>
  <Override PartName="/ppt/media/chimes.wav" ContentType="audio/x-wav"/>
  <Override PartName="/ppt/media/image2.png" ContentType="image/png"/>
  <Override PartName="/ppt/media/image22.gif" ContentType="image/gif"/>
  <Override PartName="/ppt/media/image4.jpeg" ContentType="image/jpe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notesMasterIdLst>
    <p:notesMasterId r:id="rId25"/>
  </p:notes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notesMaster" Target="notesMasters/notesMaster1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dt" idx="7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 type="ftr" idx="7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 type="sldNum" idx="7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2A68-D760-41E1-98DE-47360F180B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7C13-AB2A-447D-A45A-48BA55B718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CF3A-47CC-49FA-9F14-E9E7C97EE8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3C03-1B08-4A51-8368-12952D292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1485-48AF-4EFA-A1E1-8C00A4E6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8A81B-B04E-4215-B9DB-5B69D33A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64420-77A0-44E1-BDB5-EBD3EB8A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4CCC05-A3A2-47A7-A9D8-4E42BFAF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1A484F-A39D-45B1-BD5F-7AE2608D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BA0358-9FC5-477A-9A68-9633F1F4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77FCD6-D714-45C3-ADA8-2AE475AB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7110EA-7BE8-4647-AD58-AC2B429D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ED3BA4-EB0C-4002-97AE-847ED780D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43DEC-E73A-4AC7-B147-E37A08792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D71AE9-BF27-4E0D-8DCC-314293B8E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17D9-AD1D-4DB8-9185-54ED2B6DB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41CD87-07A7-4D84-B6C7-3F6FD8F8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73B607-E994-4794-81BF-73F9B1CA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3FD313-095A-43EF-B79B-D2C894D4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19D114-24E7-496E-B9E8-506203AA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9E1AAF-CA54-4AAA-A400-E6117DAD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0CE323-8B1E-4AE9-96B5-860CA587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064336-7AB3-4ACE-AB68-B618BB3D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64B1F1-DF3D-450B-B20D-11C1D521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C8911F-A3C3-47E8-9371-D45D2EAC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A76D4C-9590-4530-878F-67D7A3403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826E-F55F-4DBF-8D4A-18BDA076C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0ECDAE-C178-4A5D-A7CB-643C3D23F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C4725A-B76E-49ED-8CAC-88AA4236A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CCA0D-A31B-44AD-985B-5E0F40A0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79877-54C5-41F2-8F47-63E7BE81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C8692-C525-4B95-95F7-AAF65264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B1517-4A18-4E27-9DA4-88B2A20C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388178-192A-431A-9469-4C43B3DF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78186-8917-4031-8817-72C4F8C8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3412D2-790A-4A3A-BBD5-73E0CC5B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FCC13-AA8F-4876-A2AB-60BED164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321F-78CE-4A62-9C9E-6DEE14799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36A63-AD2A-40AE-BCD8-361E509A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2799B-306E-49FD-B104-63F425BCF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7101FA-9FA6-4663-A5A1-29D5D80A6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8205FC-A2E9-45BC-99C8-38926755A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ACC8B0-DCD0-4F51-9FE3-C195A1D6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D52499-94C5-4CC9-A1BF-A7B21F3D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83DEF8-A6E4-4ECB-9DCA-FC666480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8D5696-3A93-444E-9F29-64277EBC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4F2FAD-8187-498E-AC80-4CB91D5E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9BED32-44B2-4E1F-AB1F-613CC71C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DF8FE-6B6D-4544-AC31-045E8FB6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FF62CF-F14C-4D48-AD59-20A776E5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9A0540-4A72-480F-984D-ED392856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CEF169-F343-467E-88C0-4EF0A1F9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41045A-B796-44F6-A4BA-D5710217F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E5DBB0-9B1D-45E5-AB4B-9D51C8083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AD84CA-F140-4ED7-8131-C911977D3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D84DDA-1F86-4BA8-831E-43BF9689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C4E7E1-4039-4D3A-BE51-91DE7E22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01C738-171D-4B89-855F-CF5A9185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DB56EC-75A8-459A-87CA-D21BA9AE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B7124-51A7-40BC-8CFA-7FE2FD8C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3B1389-87BF-42C6-A848-361916C2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107030-5334-4119-A4D1-282298B4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AEB878-042F-4EBF-BA45-25BE2137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B16AFD-0C70-4EB3-A4F2-C0404D95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E347CF-13AF-4FEA-A818-37931843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EBA9D3-5F43-45E5-9D06-3A5F3B224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E9DB3A-D4BD-4D63-BE39-1A0D02D7E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09DB38-74A6-4A6A-9A3F-050041065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32636D-950A-448B-A600-D8FA206A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9CDD6F-A8BA-437F-8BEB-E76751AB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F13F4-6589-451D-9117-16A510B8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68A1F3-9DD4-480C-AFA8-88B5CF31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88258A-D590-495F-B86A-11E61047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5CE8B0-7544-4E47-896A-517B81F7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1CC85B-EEBE-4D65-B099-9A347180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ADCA6A-F738-4443-85F7-C94AA1D1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0AA8FB-220A-4B0A-AD6A-B4E7C85C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2752E5-F9D7-4B69-AAAC-81C3FD05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88AFE5-40E8-4D34-8C17-C286C63F8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936448-B34B-4E7D-95B8-F77268CBF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8D21A8-CFB2-4BB0-949B-300BF3D09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FB76-3BE4-4E29-B550-0C5C4EA7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79C702-52D3-4CA5-9DE6-6602E581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A21929-7912-4541-822B-86C4976A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4353B1-F918-4212-91C6-44A790F3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6E8C5E-936E-486D-80A8-A1689211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601F03-A9D9-4FE9-8ED7-775305BD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42BEF4-2438-4919-A22D-A2B2B24B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D1359F-7FEF-4B43-A463-7D872A83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E17A69-7B15-4B59-8DB7-5A74EA77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822168-FD51-4BBE-8244-70DB9ED3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5D84CD-8336-45C0-8583-E30B3534C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89D3-73D5-4C9A-9575-784B76C6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79AE51-C8BC-4642-91C4-506481376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27894F-74A6-4963-9AC9-C4D887EAC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C64EE5-4D39-4363-A8AC-293F78E4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39C315-C8D8-4458-99B3-522FD197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4E9A06-EBD2-46A6-8556-26969E26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71508D-8D97-4CF5-AD9D-4EA08AA6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BC5204-1B95-4B5C-A2BA-DAFC9F68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3D2EA6-D9C6-4F9C-998E-A79566D8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BCF8C4-410E-4575-97A8-053174AD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C4900E-C07A-4A24-98C7-8A752A37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7BD7-650B-4CCD-A004-207377EC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8F5631-4861-40E2-93CE-0686A1D1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7F2932-5118-455A-8054-F965079AC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B1E367-EF95-4101-8103-F1736E288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9118E5-5B62-448D-A6B7-7EB925751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B2B481-F10E-4448-ADC8-DA7B38F5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4044D5-FCBC-4786-A83C-43843FCB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53B28A-A809-42DB-AD01-1DAD773B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892194-010E-420A-BB7D-3E564D77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B98CBE-1BB9-41CD-9491-A27A1916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0F4880-B430-488B-B195-EFECF20A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A72E-9012-43CF-8097-A848191B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854B-46E4-4C24-8068-73FA12ED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8BBD99-EB0F-4A00-9566-EA00EA2F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BBC22A-AEFC-41CF-B1F1-CFD1C3DC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A64085-3854-44B5-ACFB-374DA7F3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C77315-D2B4-4204-8500-CA0564391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77E1EA-98E1-497C-97EA-020F19E5D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C5DE58-8219-4B03-A919-720563A6F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40B633-0099-47DE-B3B7-BEDDE21B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60FD9C-8BB9-443D-B807-9B39792A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B0E510-B19A-42D8-AF7F-D02A53AF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03F095-D816-4B80-8F76-2A409651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F6AE-3FD8-4F3F-8FC1-CFAA57BD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CA4D12-6079-4F20-97B4-0FFFA0E2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51C467-2C3F-4CA8-8A17-2E0FB1B9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A12CCE-22DE-44F8-A09C-F4AA22FD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1F9796-F363-44D3-9867-9C324D78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C0BF8B-E6A0-47C8-AA40-0BECC4EE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C767C8-F067-4271-8AF7-84A4DD210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810C9D-9372-49B4-B785-B780CD8E1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9D9BA3-E1E0-4436-BF36-EE2FE5BA8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C929AA-7449-476B-B905-EACF04F7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3F51B8-6573-4398-A06B-0EED734C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7D96-DEF1-414E-A142-5B52E58B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9B5384-09C7-48C1-A70F-E27CECD6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1C583B-1711-4EA1-AD4B-DBC187D5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945FAA-C028-462A-A30B-5460385C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7700BA-2AEB-4FF0-97A1-24BDCEAE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DD2928-FD61-4CED-BB0F-64E66793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1E6D38-14A0-45CC-BC4C-AE2391E5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DA2056-5046-409F-A300-7FFE1F20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E61F4D-724A-48A0-8A9C-789144F34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41E515-7EDF-41B9-9055-4C3A12D46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16719BF-E986-42FD-B678-20E8C8806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4B3DE-0161-4D98-ACE2-7A3B77FC1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93FDCAE-63FB-4417-96AD-8B3696FE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98741F5-1EEF-410E-832C-ABCBD9B8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C6B1B11-ABD2-4C76-985E-17FB1020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24310B9-B85D-4BD9-8D67-92E40655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5B05B12-CD9E-42C0-9AC6-C25F6F0D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C350694-A589-4A9B-86D2-F99075A7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3A237EF-E9E2-4F4A-A540-3749A7CE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DFD81D9-8940-45E1-80A1-C37CBEED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D1C7E6E-6984-4D55-9FEE-F69846E0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6D3202F-E64C-4A02-81D6-BECFC7995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4FE96-384F-45F2-9BD1-0BA5587A1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6C7BD6A-3C4F-461A-B016-A6D57D080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EA4B723-4306-4033-A517-293F68B05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521C9DA-6B86-41CB-98C4-57AA16BB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18BE956-B6C1-455C-89C8-EA5AF7B5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95DA7C8-842E-453D-8566-54422BF0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E2A8DAD-6242-444A-9C60-7D36969D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4524B6A-11AF-4A29-A3CE-4A812950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F429F90-AC2D-4589-A04D-178B5540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A51F691-E58E-4C1C-92B6-9AFBEA5E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4F6E364-5D93-4D96-AE68-F3668CD9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9C162-BE7D-4317-A304-8740AA845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70C5968-47B1-477E-B3CD-28668063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D746E51-1FAC-491E-8625-4AE06285E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4C5BD79-76A9-4903-8F6D-E42A12B1C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719FCB-6690-4D9C-9623-C412CDC58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8BF5FD-A827-4D7C-A526-69A6CAD5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2EF9E2-C23A-49E4-B4C2-9E6850DF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A6D340-3CC9-45A9-9DEF-71109C65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CA1319-5709-480D-9B5A-20374C0DF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D4F843-A0D5-4930-8824-004ED31A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FA2B1A-6E50-4965-BF90-8895E035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DFFF3-96FF-4FC6-A5A7-04052614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7060CC-5A7E-4AE7-A88A-CB6C2286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FB0298-C746-4848-A897-A120532B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91AD8E-E76A-4B22-BCE0-E18FC726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E0E97F-EEB6-4B7D-AE88-03AA74262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CD53B5-59AB-4BF5-A024-B47CE7162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1ED70A7-DF42-40FF-9330-51D8160E5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F152379-A23A-4345-B4E9-6DAF0AF4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C6A8C4C-ACE5-4A39-99CD-77F1E76E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1B7FB49-D705-45B6-9F81-0E06BC29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120EB91-50DC-494E-B9E5-6FFB6CCD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5AD3B-FA8D-48ED-B36E-D93C76F4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3BE4CFB-AFAA-41A2-98EE-B643418A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FCFE289-0FC4-4C10-A2F4-53141A00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1093951-A680-4F3D-AD51-D225BE5B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5449ED4-C7B8-4CD1-BD19-2EC0E6FE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0655A03-E930-4EF9-9EE7-D7DFD303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23A16C5-82EB-43A6-B00E-8C363585C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144FDF5-F088-48BD-A24F-BFB4D72D5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CA663-27CA-4C34-AD3B-8618EB8E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2B671-3723-41C8-A752-E120B8CD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148A-B4A7-46F4-837C-2183CBB0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D3048-5216-44BA-877D-334F13FC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72666-A42B-47D4-AF49-9B7BCA89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925F0-6B66-4B41-A75E-E6A13085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2E0D4-D9C2-40C4-9484-A38B3346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B0308-BE37-4269-B477-0A756E38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48920-4DA6-4FAF-B70E-8C439F9C7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DC382-2D73-47B7-92D2-F2F9AE209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1D9AA-BB5F-4944-BA16-48CACC0EB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895E2-5F5B-457C-A367-E7DF06CB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894F7-B741-418B-8A8E-D5974C31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6787-C1C5-42FC-8D3B-41E0E6F9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97FE8-307B-4803-B91D-1CCFF15C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6399E-4D80-4BFD-A07F-AEA75EE9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3DB67-AADC-4332-B17A-1556BD3E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B5606-B779-4E72-8972-F561AC34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BD469-1A8A-4CF6-A461-72044B97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C540B-8E41-4320-8B3D-E5C45586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C8A51-A99F-4884-9686-46859A96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97565-A89D-4C37-B785-702486678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BC73A-302A-4AA2-A751-B5399C1C7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C182A-36D4-4688-B7DC-67F663DF6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FCDD-376C-4A50-8163-845BD674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C2227-0FF0-4468-B0DE-F765849B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AC5E5-C4D2-40AB-95E6-5A53C665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7299D-458E-4E1A-B018-B5C62306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7544E-FD18-4789-B552-E33AE596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E496B-8442-41F6-859C-7291C1DE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4A9C9-F4CF-4EA3-A20E-D05E457E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FB1DE-CDAE-4809-B0CC-3D1884B7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CA569-5330-4BDD-9CCD-1DB3D881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AE928-6A2D-4668-8534-7C2CB94D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B7CB7-1BEF-41E5-BC08-7355A3264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1E85-1D81-4C32-853D-F3281A89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83288-A063-49E6-BFD6-68B85346C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4D3F8-5701-46FD-BB67-A5E05ECFF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1FDB1-AEA1-4627-BBD0-61AA20D4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0CA9B-2872-4118-B20C-8353624B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FFC26-93BB-4AF1-901C-4B95FC43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C08BA-A936-49B7-A8E6-36175013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E372F-3BE5-4DED-BC49-32B9F53E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A4706-EEB3-4F43-9DA0-E45883FB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19FC3-92BD-48EF-B768-DB071981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E0CDE-2B7B-4572-B8A4-3405E825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2A88-012B-4927-AEF0-E60780CF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EF6DC-9ABA-402E-B6E8-E940520A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F6B40-BC70-4800-A370-832653E33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84F33-23AC-4B11-AD68-56F3ABB6A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EB5F2-8815-44A2-8946-DF032791D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BD522-6EA7-49EC-A6E8-DE8BDA52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82E60-22C4-46B8-B021-5C19D7A1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BAEA9-185D-4A5F-9BDC-8AA7379C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4B4FC-DE33-452B-96A3-FE3963C3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1D1DF-4F33-48FB-801D-747C94CF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E5AD9-CD5F-49C3-B709-A15D3210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EF88-F865-4A6E-B333-845AE135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578EC-DF8D-4C21-82D4-161889E1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AA8A3-78A1-48E0-89FD-FE80CD4F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BCA2B-5347-4AFE-9038-A2BB134D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117FD-1530-4773-88FE-A735E6A2E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0AEBA-B2C1-4FAE-9709-F388ED8BD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B4C98-2813-49A4-ACB2-91D04EB62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367B1-CA33-453B-8C6A-F6CF9970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AE3FB-DAC2-4134-AFB4-C7811E21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54CB7-DB12-488E-BD77-3BD53FCF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EBB2E-A30D-4ADD-A22E-130C2542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7829-8C73-4311-B3FE-AFB95098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8F9EB-A701-49C8-8DEE-A5C5EACC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9E49E-2DF0-4754-9766-49FF4B2F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D0B0A-DB43-443B-A8E2-5930FD37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E1176-F06A-4E46-94D5-E73D4615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09ECB-F362-41ED-A9AF-D89694D4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68FBF-D70E-4301-8BB5-1565B314E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F8D8E-08DC-481E-8F9C-D98F4F63D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1EB16E-0E56-4001-93ED-289DD5101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CE1DB-D6A7-4F54-A45B-4B8192B5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9D993-40B3-4872-AC6F-A5D20430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383B-B4A5-4EB0-8012-A6D0742EF18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18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419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1b4b7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2A77-AAC0-497F-89BE-60F1C6B062AF}" type="slidenum">
              <a:rPr b="0" lang="en-US" sz="1000" spc="-1" strike="noStrike">
                <a:solidFill>
                  <a:srgbClr val="a1b4b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1b4b7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A18B-89F6-4099-832E-A3AEB236A443}" type="slidenum">
              <a:rPr b="0" lang="en-US" sz="1000" spc="-1" strike="noStrike">
                <a:solidFill>
                  <a:srgbClr val="a1b4b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5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1b4b7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BF11-4925-4719-A65D-41F2C2E26784}" type="slidenum">
              <a:rPr b="0" lang="en-US" sz="1000" spc="-1" strike="noStrike">
                <a:solidFill>
                  <a:srgbClr val="a1b4b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8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2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5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3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3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39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890C-A2F4-460C-B980-CB1D24A9D8B5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8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9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0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1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2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5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dt" idx="40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ftr" idx="4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sldNum" idx="42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D309-5DCD-4668-BB31-5E14E418C72E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8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9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0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1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2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3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4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5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6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7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ftr" idx="4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dt" idx="4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45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5513-153B-4610-9691-0181B314F182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0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1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2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3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4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5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8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04617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46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47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48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44BE-0933-415F-818D-EE6DEBDC9F17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04617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1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2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3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4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5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6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7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8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9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0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dt" idx="4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ftr" idx="50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sldNum" idx="51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873B-9787-4D73-9B46-D0F3B9B2E446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 type="dt" idx="5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 type="ftr" idx="5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 type="sldNum" idx="54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1B7F-EF04-47EE-83F5-D61F4022A59F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3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5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6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7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dt" idx="5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ftr" idx="5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 type="sldNum" idx="57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F3A6-ECE6-4F9A-97B8-ABEE59A326B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AFBE-CC48-4707-9357-A57464C9CCD7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0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1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2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3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4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5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6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7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8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9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 type="sldNum" idx="5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FBE0-39D6-44B1-9CCC-96CDAAFADAAA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 type="dt" idx="5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 type="ftr" idx="60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2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3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4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5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6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7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8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9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0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1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 type="sldNum" idx="61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0CF9-64DF-4887-BB7A-01F196D478C3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 type="dt" idx="62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 type="ftr" idx="63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4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5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6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7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8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9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0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1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Calibri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 type="dt" idx="6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 type="ftr" idx="6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 type="sldNum" idx="66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6E5C-87D2-4689-9963-759E6B8B7CD0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4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5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7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8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9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0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1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 type="sldNum" idx="67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E5F4-189A-4D6E-A5DA-5D457F03007E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 type="dt" idx="6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 type="ftr" idx="6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92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3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1b4b7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9B79-F42B-4898-9727-D75D75FC955D}" type="slidenum">
              <a:rPr b="0" lang="en-US" sz="1000" spc="-1" strike="noStrike">
                <a:solidFill>
                  <a:srgbClr val="a1b4b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dt" idx="10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ftr" idx="1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Num" idx="12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A8E1-8947-4231-8B98-775B61DCC879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8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92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9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956E-70CB-4D10-9F26-C687495F317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3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3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42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4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6831-5286-4876-9F9E-2E3967D08E5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C974-0405-42A3-BCD5-6D7745B56C8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2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3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4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F31F-4E0F-4C3A-8A65-2D0DAC77FE94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73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374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1b4b7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4DE4-37FD-492D-87F6-AF4C0929813E}" type="slidenum">
              <a:rPr b="0" lang="en-US" sz="1000" spc="-1" strike="noStrike">
                <a:solidFill>
                  <a:srgbClr val="a1b4b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229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15.wmf"/><Relationship Id="rId8" Type="http://schemas.openxmlformats.org/officeDocument/2006/relationships/audio" Target="file:///tmp/home/.config/libreoffice/4/user/gallery/chimes.wav" TargetMode="External"/><Relationship Id="rId9" Type="http://schemas.microsoft.com/office/2007/relationships/media" Target="file:///tmp/home/.config/libreoffice/4/user/gallery/chimes.wav" TargetMode="External"/><Relationship Id="rId10" Type="http://schemas.openxmlformats.org/officeDocument/2006/relationships/image" Target="../media/image20.png"/><Relationship Id="rId11" Type="http://schemas.openxmlformats.org/officeDocument/2006/relationships/image" Target="../media/image21.jpeg"/><Relationship Id="rId12" Type="http://schemas.openxmlformats.org/officeDocument/2006/relationships/image" Target="../media/image22.gif"/><Relationship Id="rId13" Type="http://schemas.openxmlformats.org/officeDocument/2006/relationships/audio" Target="../media/explode.wav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0" name="Title 1" descr=""/>
          <p:cNvPicPr/>
          <p:nvPr/>
        </p:nvPicPr>
        <p:blipFill>
          <a:blip r:embed="rId2"/>
          <a:stretch/>
        </p:blipFill>
        <p:spPr>
          <a:xfrm>
            <a:off x="1365120" y="49320"/>
            <a:ext cx="6883560" cy="219384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4" descr="C:\Documents and Settings\student3\Local Settings\Temporary Internet Files\Content.IE5\RUB1164J\MP900289575[2].jpg"/>
          <p:cNvPicPr/>
          <p:nvPr/>
        </p:nvPicPr>
        <p:blipFill>
          <a:blip r:embed="rId3"/>
          <a:stretch/>
        </p:blipFill>
        <p:spPr>
          <a:xfrm rot="19876200">
            <a:off x="6857640" y="1828440"/>
            <a:ext cx="1665360" cy="2077920"/>
          </a:xfrm>
          <a:prstGeom prst="rect">
            <a:avLst/>
          </a:prstGeom>
          <a:ln w="0">
            <a:noFill/>
          </a:ln>
        </p:spPr>
      </p:pic>
      <p:pic>
        <p:nvPicPr>
          <p:cNvPr id="1112" name="" descr=""/>
          <p:cNvPicPr/>
          <p:nvPr/>
        </p:nvPicPr>
        <p:blipFill>
          <a:blip r:embed="rId4"/>
          <a:stretch/>
        </p:blipFill>
        <p:spPr>
          <a:xfrm rot="1073400">
            <a:off x="1066680" y="25909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113" name="" descr=""/>
          <p:cNvPicPr/>
          <p:nvPr/>
        </p:nvPicPr>
        <p:blipFill>
          <a:blip r:embed="rId5"/>
          <a:stretch/>
        </p:blipFill>
        <p:spPr>
          <a:xfrm>
            <a:off x="762120" y="5029200"/>
            <a:ext cx="1827000" cy="1504800"/>
          </a:xfrm>
          <a:prstGeom prst="rect">
            <a:avLst/>
          </a:prstGeom>
          <a:ln w="0">
            <a:noFill/>
          </a:ln>
        </p:spPr>
      </p:pic>
      <p:sp>
        <p:nvSpPr>
          <p:cNvPr id="1114" name=""/>
          <p:cNvSpPr/>
          <p:nvPr/>
        </p:nvSpPr>
        <p:spPr>
          <a:xfrm>
            <a:off x="3416760" y="2779560"/>
            <a:ext cx="22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: Michele Cochra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9.11193E-006 C 0.03542 -0.08835 0.07084 -0.17669 0.11302 -0.16999 C 0.15521 -0.16328 0.21112 0.03815 0.25365 0.04047 C 0.29618 0.04278 0.32848 -0.15727 0.36806 -0.15657 C 0.40764 -0.15588 0.44618 0.04301 0.49132 0.0444 C 0.53646 0.04579 0.61198 -0.11726 0.63907 -0.14871 C 0.66615 -0.18016 0.6599 -0.16259 0.65365 -0.14478 E">
                                      <p:cBhvr>
                                        <p:cTn id="6" dur="2000" fill="hold"/>
                                        <p:tgtEl>
                                          <p:spTgt spid="1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What is energy?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ency FB"/>
              </a:rPr>
              <a:t>Energy is the ability to do work or cause chang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ency FB"/>
              </a:rPr>
              <a:t>It can take two forms kinetic or potential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4648320" cy="55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radley Hand ITC"/>
              </a:rPr>
              <a:t>Potential &amp; Kinetic</a:t>
            </a:r>
            <a:endParaRPr b="0" lang="en-US" sz="3200" spc="-1" strike="noStrike">
              <a:solidFill>
                <a:srgbClr val="08b7bf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5257800" y="1143000"/>
            <a:ext cx="3124080" cy="3276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The apple has the most potential energy at its highest point because it has the most gravitational potential energy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9" name="Picture 2" descr="C:\Documents and Settings\student3\Local Settings\Temporary Internet Files\Content.IE5\RUB1164J\MM900041044[1].gif"/>
          <p:cNvPicPr/>
          <p:nvPr/>
        </p:nvPicPr>
        <p:blipFill>
          <a:blip r:embed="rId1"/>
          <a:stretch/>
        </p:blipFill>
        <p:spPr>
          <a:xfrm>
            <a:off x="1447920" y="1981080"/>
            <a:ext cx="533160" cy="400320"/>
          </a:xfrm>
          <a:prstGeom prst="rect">
            <a:avLst/>
          </a:prstGeom>
          <a:ln w="0">
            <a:noFill/>
          </a:ln>
        </p:spPr>
      </p:pic>
      <p:sp>
        <p:nvSpPr>
          <p:cNvPr id="1120" name="Left Arrow 8"/>
          <p:cNvSpPr/>
          <p:nvPr/>
        </p:nvSpPr>
        <p:spPr>
          <a:xfrm>
            <a:off x="2666880" y="1752480"/>
            <a:ext cx="1752840" cy="914400"/>
          </a:xfrm>
          <a:prstGeom prst="leftArrow">
            <a:avLst>
              <a:gd name="adj1" fmla="val 50000"/>
              <a:gd name="adj2" fmla="val 50009"/>
            </a:avLst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Bradley Hand ITC"/>
              </a:rPr>
              <a:t>Most  Potential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1" name="Left Arrow 6"/>
          <p:cNvSpPr/>
          <p:nvPr/>
        </p:nvSpPr>
        <p:spPr>
          <a:xfrm>
            <a:off x="2743200" y="5105520"/>
            <a:ext cx="1752480" cy="914400"/>
          </a:xfrm>
          <a:prstGeom prst="leftArrow">
            <a:avLst>
              <a:gd name="adj1" fmla="val 50000"/>
              <a:gd name="adj2" fmla="val 49998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adley Hand ITC"/>
              </a:rPr>
              <a:t>Most  Kinetic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2" name="Left Arrow 7"/>
          <p:cNvSpPr/>
          <p:nvPr/>
        </p:nvSpPr>
        <p:spPr>
          <a:xfrm>
            <a:off x="2666880" y="3429000"/>
            <a:ext cx="1828800" cy="83808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7030a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adley Hand ITC"/>
              </a:rPr>
              <a:t>Both evenly distributed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3" name=""/>
          <p:cNvSpPr/>
          <p:nvPr/>
        </p:nvSpPr>
        <p:spPr>
          <a:xfrm>
            <a:off x="5257800" y="4495680"/>
            <a:ext cx="3292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pple has the most Kinetic energy </a:t>
            </a:r>
            <a:r>
              <a:rPr b="0" lang="en-US" sz="2800" spc="-1" strike="noStrike">
                <a:solidFill>
                  <a:srgbClr val="009dd9"/>
                </a:solidFill>
                <a:latin typeface="Arial"/>
              </a:rPr>
              <a:t>righ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befo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hits the groun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heel spokes="3"/>
    <p:sndAc>
      <p:stSnd>
        <p:snd r:embed="rId2" name="push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0.04857 L 0.00417 0.5148 E">
                                      <p:cBhvr>
                                        <p:cTn id="22" dur="2000" fill="hold"/>
                                        <p:tgtEl>
                                          <p:spTgt spid="1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1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2000"/>
                                        <p:tgtEl>
                                          <p:spTgt spid="1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ypes of Energ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Bradley Hand ITC"/>
              </a:rPr>
              <a:t>Potenti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47960" y="182844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Bradley Hand ITC"/>
              </a:rPr>
              <a:t>Kineti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adley Hand ITC"/>
              </a:rPr>
              <a:t>Chemica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adley Hand ITC"/>
              </a:rPr>
              <a:t>Mechanica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adley Hand ITC"/>
              </a:rPr>
              <a:t>Elastic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457164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adley Hand ITC"/>
              </a:rPr>
              <a:t>Sound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adley Hand ITC"/>
              </a:rPr>
              <a:t>Therma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adley Hand ITC"/>
              </a:rPr>
              <a:t>Electrica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adley Hand ITC"/>
              </a:rPr>
              <a:t>Mechanica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29" name="Picture 2" descr="C:\Documents and Settings\student3\Local Settings\Temporary Internet Files\Content.IE5\IDNBX0LP\MC900064950[1].wmf"/>
          <p:cNvPicPr/>
          <p:nvPr/>
        </p:nvPicPr>
        <p:blipFill>
          <a:blip r:embed="rId2"/>
          <a:stretch/>
        </p:blipFill>
        <p:spPr>
          <a:xfrm>
            <a:off x="9518760" y="2367000"/>
            <a:ext cx="95040" cy="8424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3" descr="C:\Documents and Settings\student3\Local Settings\Temporary Internet Files\Content.IE5\HAPT2QAI\MP900438774[1].jpg"/>
          <p:cNvPicPr/>
          <p:nvPr/>
        </p:nvPicPr>
        <p:blipFill>
          <a:blip r:embed="rId3"/>
          <a:stretch/>
        </p:blipFill>
        <p:spPr>
          <a:xfrm>
            <a:off x="6324480" y="3581280"/>
            <a:ext cx="838440" cy="51120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4" descr="C:\Documents and Settings\student3\Local Settings\Temporary Internet Files\Content.IE5\TZVPQQH3\MC900197535[1].wmf"/>
          <p:cNvPicPr/>
          <p:nvPr/>
        </p:nvPicPr>
        <p:blipFill>
          <a:blip r:embed="rId4"/>
          <a:stretch/>
        </p:blipFill>
        <p:spPr>
          <a:xfrm>
            <a:off x="6477120" y="4495680"/>
            <a:ext cx="761760" cy="77148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5" descr="C:\Documents and Settings\student3\Local Settings\Temporary Internet Files\Content.IE5\ZBEL24G9\MC900083545[1].wmf"/>
          <p:cNvPicPr/>
          <p:nvPr/>
        </p:nvPicPr>
        <p:blipFill>
          <a:blip r:embed="rId5"/>
          <a:stretch/>
        </p:blipFill>
        <p:spPr>
          <a:xfrm rot="21090600">
            <a:off x="6687720" y="5705280"/>
            <a:ext cx="960480" cy="86508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6" descr="C:\Documents and Settings\student3\Local Settings\Temporary Internet Files\Content.IE5\9AHSM993\MC900311156[1].wmf"/>
          <p:cNvPicPr/>
          <p:nvPr/>
        </p:nvPicPr>
        <p:blipFill>
          <a:blip r:embed="rId6"/>
          <a:stretch/>
        </p:blipFill>
        <p:spPr>
          <a:xfrm>
            <a:off x="2362320" y="4114800"/>
            <a:ext cx="533160" cy="74304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2" descr="C:\Documents and Settings\student3\Local Settings\Temporary Internet Files\Content.IE5\NKV9NTN9\MC900064950[1].wmf"/>
          <p:cNvPicPr/>
          <p:nvPr/>
        </p:nvPicPr>
        <p:blipFill>
          <a:blip r:embed="rId7"/>
          <a:stretch/>
        </p:blipFill>
        <p:spPr>
          <a:xfrm>
            <a:off x="6553080" y="2819520"/>
            <a:ext cx="584280" cy="514080"/>
          </a:xfrm>
          <a:prstGeom prst="rect">
            <a:avLst/>
          </a:prstGeom>
          <a:ln w="0">
            <a:noFill/>
          </a:ln>
        </p:spPr>
      </p:pic>
      <p:pic>
        <p:nvPicPr>
          <p:cNvPr id="1135" name="" descr="">
            <a:hlinkClick r:id="" action="ppaction://media"/>
          </p:cNvPr>
          <p:cNvPicPr/>
          <p:nvPr>
            <a:audioFile r:link="rId8"/>
            <p:extLst>
              <p:ext uri="{DAA4B4D4-6D71-4841-9C94-3DE7FCFB9230}">
                <p14:media r:link="rId9"/>
              </p:ext>
            </p:extLst>
          </p:nvPr>
        </p:nvPicPr>
        <p:blipFill>
          <a:blip r:embed="rId10"/>
          <a:stretch>
            <a:fillRect/>
          </a:stretch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3" descr="C:\Documents and Settings\student3\Local Settings\Temporary Internet Files\Content.IE5\GXF1Z2Q0\MP900289575[1].jpg"/>
          <p:cNvPicPr/>
          <p:nvPr/>
        </p:nvPicPr>
        <p:blipFill>
          <a:blip r:embed="rId11"/>
          <a:stretch/>
        </p:blipFill>
        <p:spPr>
          <a:xfrm>
            <a:off x="2286000" y="5334120"/>
            <a:ext cx="685800" cy="85572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7" descr="battery.gif"/>
          <p:cNvPicPr/>
          <p:nvPr/>
        </p:nvPicPr>
        <p:blipFill>
          <a:blip r:embed="rId12"/>
          <a:stretch/>
        </p:blipFill>
        <p:spPr>
          <a:xfrm rot="1135200">
            <a:off x="2209320" y="2895120"/>
            <a:ext cx="876600" cy="8766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  <p:sndAc>
      <p:stSnd>
        <p:snd r:embed="rId13" name="explode.wav"/>
      </p:stSnd>
    </p:sndAc>
  </p:transition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1135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135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134" fill="hold"/>
                                        <p:tgtEl>
                                          <p:spTgt spid="1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35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21:11:20Z</dcterms:created>
  <dc:creator> </dc:creator>
  <dc:description/>
  <dc:language>en-US</dc:language>
  <cp:lastModifiedBy>Michele Cochran</cp:lastModifiedBy>
  <dcterms:modified xsi:type="dcterms:W3CDTF">2012-04-08T20:13:04Z</dcterms:modified>
  <cp:revision>24</cp:revision>
  <dc:subject/>
  <dc:title>Energy</dc:title>
</cp:coreProperties>
</file>